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687-D2C4-47DA-8A78-9D3313A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6A2-CE99-42C5-AB6A-122BEF9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722E-F605-4950-973C-B183399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7F69-42BE-4EF2-B8CD-EC5C1CB3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2E5F-9CB1-4CC9-8352-4CB31492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895A7-41EB-4E51-9FEA-8C77658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A1702-89D5-439B-9CF0-46583E3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A321-20B8-4959-A97C-DA54F51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56A7-756E-4F4C-B720-E72D899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F833-D409-40D3-B8CF-DF83FD63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C0E68-2688-49BC-BB89-DF6C1C23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6643D-29AA-4452-85AA-7C380B98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ADE-A2C2-495C-B955-2CADCB64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7EE2A-A7EA-41E7-A80B-FAAE136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CEE6-9851-4446-94FF-C37931C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61C7-3C36-4C04-B88B-DD966F0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E44F2-69BE-4C11-A681-8BCE8CA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8B0AA-7352-49AE-A695-8540333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AF9EC-06FD-4806-9503-9627DFF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C7C40-93E0-4E15-B4A0-26B3172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7E33A-EFAE-4B5C-9443-8A49277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46B49-BD69-46AE-850A-59DEBF5D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E8FE7-EF37-43DD-B507-3F6E7366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625-4DEF-4744-B7A5-C747ED6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CD1FD-FF04-48B6-AC85-A1BABD22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14FC4-8EE3-47F7-96D7-838CF4CF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D48F-D0CE-4B6D-ACC8-D46FB9D4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38808-3BD2-4D90-9060-EA74718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9C0AB-CDF2-4581-AF0A-0FB5CE9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58723-2405-402B-94EF-94C78EB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D2AFA-4830-42E6-AF4F-F423DF8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B77D-8204-4797-9E33-C1414C5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63589-EC90-436C-A357-8C4D9ED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846F6-CAFD-4A61-A51F-8114294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F75-7BCD-42A4-89A1-CD3A105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0B65D-9E5C-4049-BB15-053FBE6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DE7CE-EE51-4F40-836D-0CA5507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01F1-8159-4329-94ED-224C7275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0ECA-9924-411B-A620-4702FAF3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F9DAB-27E5-46FD-B58B-42EF928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CCED0-A11D-4B84-A7CB-D89AFC4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7ADF3-6527-46E7-980D-B48C684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A76FD-6988-4661-985D-A9D9F168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3EE11-B38D-4279-AA28-3B8D729E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AC0F2-0ADF-42C5-9A85-E5C7750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4B7E-B8BC-424D-B2A3-16F41191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ED60A-EC27-4E6A-8C1C-9B9CBA9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37201-D3B8-4744-8298-F811DA9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1F687-A376-45D9-9558-89A4379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3D30E-5654-48EB-AA21-86A8D0F7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A174E-34B4-4C1C-9645-CFBB0BA4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F1E5-0A92-4911-977C-09214FA2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B8B-BCE4-428C-A980-4EFB6D8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7807-6B2D-454F-B6A2-0708C5B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60B6-CC08-4CEF-9FE3-2D0C9C5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3A50-06E7-4A3E-A59A-CE902FB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948-960E-4717-82E5-3C085C4B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2E55-68A9-4E39-8A35-2126B2A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5C0-564A-4C20-A1E5-5C0DFC8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6A12-579B-4CD5-9A61-B618E37F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F7B2-FF2B-428A-B260-87F1553C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2738-A3A1-4DAA-9E6A-2DCDCE2D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0996-EC8F-4727-9D1D-52EB3B6E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10E9-83C4-4046-86AF-96BBE7F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6188-4E02-4A03-B0C0-EE6FD67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7141-125A-45DF-B5A7-2212C63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9F1A-C5ED-45B8-92A0-A2A9721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4DC-86AF-49B3-AD7B-24A2EDD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390E-D3F3-423A-8411-24FAFC3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F6E6-D1FE-4EDE-BC12-E956DF8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6D98-1114-43F0-A7A0-92032DE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060B-ADAA-4998-B010-6B184A4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E188-C158-457B-8BBD-909A865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7CF1-86C0-4A55-9FC1-D69D0031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6C34-B00F-47EB-8C12-08E79B8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C087-113B-402D-A19C-B9E95F79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324D-3D6E-4E34-B50E-3C0D078D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D0DA-5ED2-4952-A8B5-8D07D0E3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82D-BADC-4173-82DE-CAF7CF9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406F-6814-495A-9E1B-AFCC397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67E3-EC67-4300-BB04-96EFF41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3372-5864-44D1-BBD1-862CA66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0583-9C7A-4911-80C8-9F1AA61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94BD-0C08-4FE1-B2DC-B628410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5E25-2679-4B23-B86F-EBAB8F9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5282-4084-41C2-A449-EA38F25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4D93-06F1-4709-8897-694C2EA8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FA95-289D-4D89-93C5-AD07DE07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8AFC-8ED0-41F7-A58D-A9A55697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2D6-8D4B-448F-B1C0-08D5D796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67B9B-9E2C-42CA-9E3E-2D6CEEB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9BA04-79E9-4A6C-946F-24BD6FA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D33F7-F598-431F-A925-0CBF21C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94F4-E93E-4D2A-8683-52821F5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6317-09DB-4FA6-9CF0-ECD8EF8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A81B9-F863-429A-AAB0-2174914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CC0E-D804-4B46-B2DE-F0B6F94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B598-F922-4E51-A0AD-B3FFE53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A9D9-E9FB-4558-A049-AF36A63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AA69-AD23-4AB3-A96E-7AC4621F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6D6-8AF7-4BBA-AE35-3920EF5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BC0C-2966-4F7E-8D37-8A19F563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7900-AAC4-49B4-BB31-4171512F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0B7E-6179-42F2-AEB4-BD24D57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BC0A-3988-4714-9870-C5E79BC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CA762-E417-4E5E-9808-C351007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5306-3C51-4F98-8C00-62549EE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4AFF-BDDF-4649-8F4F-DF4C3682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B5EC-DA4A-4BE9-8F5F-1DF15B6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B6A1-9928-47B3-8C05-48611DA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1D17-0B1A-49F1-AC15-9FCC65B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D5B-2E4D-4C27-9143-B00E758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4F75-92AA-4E2F-9009-F085774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E35B8-F666-41C7-B2CF-0702B39A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359E-5490-4CB5-B587-64279EF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B8194-C3A3-42CF-A544-A8B58D08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4EAC-6560-4BF4-BD9F-A0E2D9BC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D760-5D1E-49CD-B53E-0351A916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DC28-D81E-4C58-B7F3-F35004D9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79DE-4F02-4B86-A4F4-8D06BEE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56CA-E072-4D33-B282-50F41A7E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6936-4578-42AF-B1F1-F134B1C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C1A-F0D5-4AFC-ACEA-F6D06BA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9D15-AA8D-4F35-A824-CB23685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3967-0D89-4610-87C6-2A5B101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C42F-EA65-416C-B3AF-A6B839CA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AD5A-B4B4-4968-B2EA-C84B0143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BFCE3-3FFF-4C97-A47B-95A29C29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84BFB-9D75-4E61-9BF6-6C6F9C7C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32D7-7F2E-40D1-84C0-FA09842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44DB-E45D-4752-B373-11BA1D03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336ED-4957-4CA2-842E-94C8D35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D8F2-8D88-4B39-94E7-504B68E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7E6-06CF-422D-8393-FA1BB26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8B84-DBA0-4165-BD14-08728FE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C42D-E21C-4A62-93B4-A38A820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8CA26-1182-455E-9310-BB2FAA1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B58A-691F-462D-9A08-E8C67BB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09C12-E899-4D0F-B4FC-703E7818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1CFF9-C663-4593-8635-47D86B25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2C0F9-3E18-4D0D-B070-7B149AF5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AEC14-6572-469E-935E-F85EAB5B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772F3-2071-4022-9163-6604F64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E78B7-76D5-4951-B1D8-09D3C49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4054-D8F2-4F62-89CF-156AD63F41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52C-0D48-4858-AC47-D0B5921AAD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5D1-D40A-44F1-AC30-5B1D33863D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A97-F212-40B2-94D4-AC1B8F0306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885-41F2-419B-ACB4-DFB0DECABD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9FA1-FD19-405A-9DB6-95B0E2D122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E1A5-AC4B-4EE0-82FD-2539A7C36A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78FF-465D-41EB-B92C-814327AC73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4D9-8480-42D4-925C-5A1652AF52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C4A4-461C-42E0-BA34-60E46C24A3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830-336C-4BB7-9CB1-443F121B14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015-4DFF-4210-9DC4-C787E8A184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Рисунок 3" descr="7941714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599840"/>
            <a:ext cx="4471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2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3" descr="107910.jpg"/>
          <p:cNvPicPr/>
          <p:nvPr/>
        </p:nvPicPr>
        <p:blipFill>
          <a:blip r:embed="rId1"/>
          <a:stretch/>
        </p:blipFill>
        <p:spPr>
          <a:xfrm>
            <a:off x="5572080" y="1643040"/>
            <a:ext cx="2648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Владелец</cp:lastModifiedBy>
  <dcterms:modified xsi:type="dcterms:W3CDTF">2010-05-17T06:05:53Z</dcterms:modified>
  <cp:revision>27</cp:revision>
  <dc:subject/>
  <dc:title>Какие виды сложных предложений вам известны?</dc:title>
</cp:coreProperties>
</file>